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AA3-CBEB-4714-AF86-06E18E5B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8ED-06A0-4E41-B7D9-C180E2B1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25F-E673-4197-8C4F-5318203E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B1D-654A-461D-BCA0-406C8D35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0939-150B-41E1-89DA-5EE2B6BB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CD4E-F886-4759-82C1-93CBD78B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C9F1-D397-4445-AD85-1A588355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B279-3F8A-400E-B04A-6938ED41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694B-FE1B-4310-BE33-964AE8B6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9E89-9B6A-4035-BBE6-633E7DFD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8E07-1BA4-42AA-8BAA-642CE94D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3D5-B2DF-4803-A379-4A77643C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7C56-D6B3-4C6F-9A99-9358891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3B3E-9C75-4D9A-834B-46F7256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56F4-743D-4721-ACCF-466F8412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8C57-9690-442A-85CA-936B306A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26F1-FE84-4A3E-BBC4-2407955D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8BD-4FAD-4001-A5A0-BCCD4F7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4F0-2BD5-4C49-B338-5104AED3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B5D-B47E-406E-8F78-ABB31CB2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6CF-A1DE-4B81-848C-4E171030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A80-223B-4BBF-8CC0-C5D87D4A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42C-EF67-49DB-9F0A-DA712D5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AC6-2C99-4D58-9EE1-E5F63FE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1e8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F121-6718-4BCC-99F0-973D3DEBADC2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1e8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6513-1783-412E-B360-BC95D6266055}" type="slidenum">
              <a:rPr b="0" lang="ro-RO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te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ki 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un site care permite utilizatorilor 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îşi deschidă un cont(şi să îşi creeze un profil) şi apoi să posteze comentarii pe anumite teme sau să propună alte teme celorlaţi utilizato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mă ajută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ce e superior altor interfeţe care servesc la comunica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 Wiki pot să adaug comentarii ulterior altor comenta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e interactiv şi mult mai facil decât alte interfeţe pentru e-mail sau c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ate fi public sau priv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devenit un fenomen în plină ascensiu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un site pe care utilizatorii îşi postează opiniile, impresiile, chiar cu pretenţii de literatur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obligat să citesc blog-uri(sau viaţa mă va obliga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istă o sumedenie de blog-uri, pe teme atât de diferite, încât nu ştiu dacă cineva le-ar putea clasi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 fi interesat la un moment dat să citesc blog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zitatorii blog-urilor pot posta la rândul lor comenta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ca un foru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site-uri la care se afiliază diverse persoane interesate de un anumit subi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accesat până acum asemenea site-uri , care oferă sfaturi despre sănătate sau despre defecţiunile maşin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www</cp:lastModifiedBy>
  <dcterms:modified xsi:type="dcterms:W3CDTF">2010-12-08T06:28:59Z</dcterms:modified>
  <cp:revision>11</cp:revision>
  <dc:subject/>
  <dc:title>Compuşi hidroxilici</dc:title>
</cp:coreProperties>
</file>